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4EC15-A54C-4423-B2FA-D3480CC9A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21742-14C4-4D78-8FB3-F5057A5E4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424F2-E4AD-45EE-9DA6-68E92154B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B328E-85FA-4BB7-97AA-D6C5967F4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DA8F4-3F83-4EFB-8546-DE2C19A09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17D5F-FEF2-4D4E-BA7C-4AE1DA8D8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81B62-F693-455B-9F70-2ADD7B120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37914-0D14-45F4-AADA-E27C40D6E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46111-387F-456B-9709-04F771D48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0F365-5804-4074-8AE5-8AA7D180D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1E020-FED8-4C62-8FFF-CA7D0F0AE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57A2C-32E0-4AF2-870D-714CD312D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300AA-C139-47BC-B913-BA8070CB6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C5017-9731-44DC-B473-5BF5E3915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2B089-8C59-4EB4-AF21-6CAD57E25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542FF-EF11-4E0A-A8B0-F21AD1D5E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5C568-3D3F-4683-956F-8F5F56DE6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4F8C7-B928-41DD-BBE0-0F1694CC1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6B020-4C40-4CF9-B240-9F061D846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8D61D-7769-42F3-A986-29ED162FD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3AC2D-7FE8-4591-BDED-29F69054D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106B-3E4D-449A-9B54-7C52086BC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AB99C-2418-4D9C-9A36-E2BEB33FC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7BF3A-B01F-4DFF-8F75-1AB1A6C46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5A45-6BFF-433B-9DEF-BE19ECEAD2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ACB2-DBBD-41C7-819B-CFDD4784FB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echnology Plan FY2011</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ere are we now?</a:t>
            </a:r>
            <a:endParaRPr b="0" lang="en-US" sz="4200" spc="-1" strike="noStrike">
              <a:solidFill>
                <a:srgbClr val="ffffff"/>
              </a:solidFill>
              <a:latin typeface="Arial"/>
            </a:endParaRPr>
          </a:p>
        </p:txBody>
      </p:sp>
      <p:pic>
        <p:nvPicPr>
          <p:cNvPr id="94" name="" descr=""/>
          <p:cNvPicPr/>
          <p:nvPr/>
        </p:nvPicPr>
        <p:blipFill>
          <a:blip r:embed="rId1"/>
          <a:srcRect l="3413" t="14945" r="22509" b="38080"/>
          <a:stretch/>
        </p:blipFill>
        <p:spPr>
          <a:xfrm>
            <a:off x="685800" y="1600200"/>
            <a:ext cx="7620120" cy="441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raft Mission Statement</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over School District is committed to providing responsive technology and digital literacy for all students and the entire Andover Public School community that will prepare our students to thrive in an ever changing globally competitive world.</a:t>
            </a: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raft Vision Statement</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eneral:</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aise the bar -- strive for excellence, not just improvement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aradigm shift is happening - the right technology can help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mmunity of Learners</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evelop students as life long learner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deas about the technology itself:</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Ubiquitous access and use of technology at home and school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evice independent, flexible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Beverage cloud computing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ow cost (to the schoo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here the strategic plan and curriculum is heading:</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mphasis on critical thinking, effective communication and collaboration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tudents as members of a global community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upport 21st century learning skills and performance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tudent-centered learning with teachers as coach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ritical dependencies:</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mphasis on responsible &amp; ethical use of technology (integrate into curriculum)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isks must be understood and policies must be established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mportance of professional developmen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raft Plan One</a:t>
            </a:r>
            <a:endParaRPr b="0" lang="en-US" sz="4200" spc="-1" strike="noStrike">
              <a:solidFill>
                <a:srgbClr val="ffffff"/>
              </a:solidFill>
              <a:latin typeface="Arial"/>
            </a:endParaRPr>
          </a:p>
        </p:txBody>
      </p:sp>
      <p:sp>
        <p:nvSpPr>
          <p:cNvPr id="100"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ll Grade 5 to 12 students their own laptop </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ll Teachers and Students with access to the School District online resources both in school and outside of school</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consistent funding of the technology plan</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andatory professional development, i.e.if a teacher wants technology they must participate in XX hours professional development and demonstrate appropriate classroom application of the technology in the educational process</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tudent centered learning</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ome proficient technology user as per the State Teacher Self Assessment Tool by XX/XX/2011</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relevant and appropriate </a:t>
            </a:r>
            <a:r>
              <a:rPr b="1" lang="en-US" sz="2000" spc="-1" strike="noStrike">
                <a:solidFill>
                  <a:srgbClr val="000000"/>
                </a:solidFill>
                <a:latin typeface="Arial"/>
              </a:rPr>
              <a:t>Massachusetts Technology Literacy Standards and Expectations</a:t>
            </a:r>
            <a:r>
              <a:rPr b="0" lang="en-US" sz="2000" spc="-1" strike="noStrike">
                <a:solidFill>
                  <a:srgbClr val="000000"/>
                </a:solidFill>
                <a:latin typeface="Arial"/>
              </a:rPr>
              <a:t> into the teacher’s les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imated Cost of Plan One</a:t>
            </a:r>
            <a:endParaRPr b="0" lang="en-US" sz="4200" spc="-1" strike="noStrike">
              <a:solidFill>
                <a:srgbClr val="ffffff"/>
              </a:solidFill>
              <a:latin typeface="Arial"/>
            </a:endParaRPr>
          </a:p>
        </p:txBody>
      </p:sp>
      <p:pic>
        <p:nvPicPr>
          <p:cNvPr id="102" name="" descr=""/>
          <p:cNvPicPr/>
          <p:nvPr/>
        </p:nvPicPr>
        <p:blipFill>
          <a:blip r:embed="rId1"/>
          <a:srcRect l="0" t="15000" r="13777" b="26667"/>
          <a:stretch/>
        </p:blipFill>
        <p:spPr>
          <a:xfrm>
            <a:off x="609480" y="1371600"/>
            <a:ext cx="792504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raft Plan Two</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computer usage and pull back under used equipment.</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evaluate our printing requirements – go paperles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sign used equipment to individuals who will apply technology in the learning proces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ll Teachers will a laptop computer</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ge a student technology fee beginning is the 5 grade</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Open Source software and storage</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se student/teacher bandwidth from Verizon, AT&amp;T, Sprint, or T-Mobile</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students/teachers to use their own equipment in school</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mandatory professional development, i.e.if a teacher wants technology they must participate in XX hours professional development and demonstrate appropriate classroom application of the technology in the educational proces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student centered learning</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ome proficient technology user as per the State Teacher Self Assessment Tool by XX/XX/2011</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 relevant and appropriate </a:t>
            </a:r>
            <a:r>
              <a:rPr b="1" lang="en-US" sz="1600" spc="-1" strike="noStrike">
                <a:solidFill>
                  <a:srgbClr val="000000"/>
                </a:solidFill>
                <a:latin typeface="Arial"/>
              </a:rPr>
              <a:t>Massachusetts Technology Literacy Standards and Expectations</a:t>
            </a:r>
            <a:r>
              <a:rPr b="0" lang="en-US" sz="1600" spc="-1" strike="noStrike">
                <a:solidFill>
                  <a:srgbClr val="000000"/>
                </a:solidFill>
                <a:latin typeface="Arial"/>
              </a:rPr>
              <a:t> into the teacher’s less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4">
                                            <p:txEl>
                                              <p:pRg st="10" end="1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imated Cost for Plan Two</a:t>
            </a:r>
            <a:endParaRPr b="0" lang="en-US" sz="4200" spc="-1" strike="noStrike">
              <a:solidFill>
                <a:srgbClr val="ffffff"/>
              </a:solidFill>
              <a:latin typeface="Arial"/>
            </a:endParaRPr>
          </a:p>
        </p:txBody>
      </p:sp>
      <p:pic>
        <p:nvPicPr>
          <p:cNvPr id="106" name="" descr=""/>
          <p:cNvPicPr/>
          <p:nvPr/>
        </p:nvPicPr>
        <p:blipFill>
          <a:blip r:embed="rId1"/>
          <a:srcRect l="1778" t="15000" r="4890" b="26667"/>
          <a:stretch/>
        </p:blipFill>
        <p:spPr>
          <a:xfrm>
            <a:off x="609480" y="1600200"/>
            <a:ext cx="777240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20:02:51Z</dcterms:created>
  <dc:creator>APS</dc:creator>
  <dc:description/>
  <dc:language>en-US</dc:language>
  <cp:lastModifiedBy>APS</cp:lastModifiedBy>
  <dcterms:modified xsi:type="dcterms:W3CDTF">2010-02-04T20:50:05Z</dcterms:modified>
  <cp:revision>5</cp:revision>
  <dc:subject/>
  <dc:title>Technology Plan FY2011</dc:title>
</cp:coreProperties>
</file>